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48E0-34BB-4F53-B3E9-B62FCD68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0F7D-D545-49D1-BF39-9C29C1B5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4436-116C-4B97-87EC-12418FCD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3D97-A065-42D1-820E-83E2D78F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9918-CBEE-4924-B4AE-4EF11DB7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A7FE-5BCD-4436-84F4-3929687A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0C71-B826-461A-957C-3BFFC22C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345F-333C-43C4-AE34-08CB83CE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6444-0E9D-4738-BF70-6F177319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12D3-1C13-4EAD-8C3C-E8E05480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47C4-C544-4422-8892-B01D319F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5854-4D3B-454C-8029-D1E43FD7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566A-A4C4-4457-9EA7-856D9EA2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B329-ED0E-4AA0-AD8A-1B1C8F09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9BC0-4C35-4139-BEAA-F61BDC31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CF6F-76FA-46C8-AEBA-5D86994A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A781-1174-428D-860D-870BE4A4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2B719-88F0-4F1D-96EE-A7D3DD9D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A78F4-1BDB-4632-BB5B-A49A7976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FEFED-56CC-4D02-AEF8-305E257A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A12429-B615-4B99-ACA0-D02D8671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03315D-E0BB-41EB-B2A7-FCEC6AB4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260D-2BCC-4F84-B2B6-31CBE9F7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D743B1-5D5B-4CB1-8EC0-6B0BCA9C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3CBF2-D2C4-4D74-90F3-7DC60175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6A6FE4-053F-4F76-A699-67CD2A32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051F06-1213-484D-8E58-42700CB6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347C17-8573-452E-B367-F5B8DA82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6B6217-A84D-4116-816B-7340E5C7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C61B3B-D5ED-48A8-9FA1-F8D3E26D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BAE54-05DF-461C-81E1-E8703754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D3F09-BE88-4820-8546-FD173CB2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79360-6FC3-4AFF-BE78-193A5ECC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585F-4403-4BFD-BC72-BD6BDB94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69497-8D8A-4866-AA87-0F39003B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6E7A9-8E77-4FB6-A6CD-AAD5D7AF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2C7F3-A5DD-4EE0-B583-E7A5AFB5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34048-9424-45A2-BCB9-AEA92229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31158-806B-47A9-8204-26277C35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FB3E1-463D-4A8A-AF8A-016FEBF9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2EE6E-0187-4997-B3E4-E8053158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257F8-489E-45CA-AAE3-ECC24F93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7CAB4-9D51-40A2-AE1F-04A66F01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AD1B7B-C93D-43C6-923A-80AE4ED0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67A-051E-40C3-B4C4-C4634948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6D4CF0-7B87-4CD8-8A42-9AA6D630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6612E4-976A-4F0C-A6B7-98B7FA42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56EA31-DD63-45F7-AA70-C3796D3F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FC1608-279D-4ACB-96B2-014D8578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DD51B7-4663-45ED-80D1-FD1DF083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656EB4-F3E7-41B1-B076-889A9B72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0B0629-BB01-47AD-8A89-090DEB0E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17AAE5-35CA-4C74-A7A1-9D28CBD7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98F189-1BB2-4756-80FA-599774E9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482524-317D-4B48-80BE-782678D0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5B7C-142E-4599-BE20-8476614D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409B9C-2117-4F24-BFDC-9E2E1BAF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C2FAFA-E335-46EC-B1C6-1D14598D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9B2D44-EF6E-49EE-84B3-B77BB6D3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97794F-7917-48EC-BA9C-97310270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47094F-FC30-49CA-97F5-8D4C2A7F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BF2B9F-933A-4EF1-ADD0-3CF6F155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737944-705A-4E65-9463-D07A5296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BA0F5C-210B-450D-92BB-77229659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84A3EE-5364-41F8-A445-DFF86ACD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EF3F11-C4FE-4662-B98C-EB17C8EF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135E-4107-41E0-8694-4597EA04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A67DBF-8A7A-4CA5-8F7E-728426A9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1FDAB2-FEAF-4F17-81CB-1156F717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64AB7B-4B0E-4B9D-8D1C-E59349E8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883885-CC00-4DEF-A3D5-42F1B42E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EAA6F8-793E-4808-88ED-22657646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A23CAF-E345-41C3-8D40-74E6368C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343305-B957-44BD-BB8D-9F54441E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379653-6FFA-4B82-8844-0F00F3B7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F6C272-6749-488B-985C-0DDAC09F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A68AFA-24ED-482E-888C-5CF14C9C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990C-7FD5-47B7-AEA9-806E54F5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92E8FA-D234-4048-9C87-8B565FE1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5DA134-E698-4B2E-9966-9398D8AB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3A4C7D-E0E1-4E90-BCC9-48A55290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1CA1B4-1C1F-4F80-A1F1-C5712B77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854FC6-4180-4F08-8B9F-98BE8A6C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1FC2-410B-4E22-8C9E-CA3B16B3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FA65-3DA3-4ED3-872E-B1543AAB4A4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A400-0D64-48C8-A284-4D00493C030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D677-48E7-404B-B017-3A063B5C04D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1ACE-A8FC-4BED-8EC8-C859F7C1B2B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A2E3-D002-43ED-BFF9-F6FF02DE1A2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725F-DDB9-4560-B71D-C1C3FA452F5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1794-D97F-4C0E-9F1D-FB4BCA2113C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interactivemedia/activityshared/ActivityLoader.html?c6e&amp;22&amp;02&amp;13A%20Darwin%20and%20the%20Galapagos%20Islands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interactivemedia/activityshared/ActivityLoader.html?c6e&amp;22&amp;06&amp;13C%20Reconstructing%20Forelimbs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videos/GalapagosIslands-V.html" TargetMode="External"/><Relationship Id="rId2" Type="http://schemas.openxmlformats.org/officeDocument/2006/relationships/hyperlink" Target="http://media.pearsoncmg.com/bc/bc_campbell_concepts_5/media/assets/videos/MarineIguana-V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videos/GrandCanyon-V.html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CHAPTER 13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How Populations Evolv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04920" y="68544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5600" indent="-33516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hile on the voyage of the HMS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Beagle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in the 1830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492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harles Darwin observed similarities between living and fossil organisms and the diversity of life on the Galápagos Island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492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492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492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492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Web 13A Darwin and the Galapagos Island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79" name="Group 55"/>
          <p:cNvGrpSpPr/>
          <p:nvPr/>
        </p:nvGrpSpPr>
        <p:grpSpPr>
          <a:xfrm>
            <a:off x="882720" y="254160"/>
            <a:ext cx="7753320" cy="6240240"/>
            <a:chOff x="882720" y="254160"/>
            <a:chExt cx="7753320" cy="6240240"/>
          </a:xfrm>
        </p:grpSpPr>
        <p:sp>
          <p:nvSpPr>
            <p:cNvPr id="380" name="FlagCount" hidden="1"/>
            <p:cNvSpPr/>
            <p:nvPr/>
          </p:nvSpPr>
          <p:spPr>
            <a:xfrm>
              <a:off x="8255160" y="254160"/>
              <a:ext cx="380880" cy="3175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e8637">
                <a:alpha val="25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1" name="Picture 6" descr="_x001a_13_01bBeagleVoyage_CNL.jpg                                     0050CFAB_x0003_203                            BE61E8D3:"/>
            <p:cNvPicPr/>
            <p:nvPr/>
          </p:nvPicPr>
          <p:blipFill>
            <a:blip r:embed="rId2"/>
            <a:stretch/>
          </p:blipFill>
          <p:spPr>
            <a:xfrm>
              <a:off x="1824120" y="3263760"/>
              <a:ext cx="6465960" cy="32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 Box 7"/>
            <p:cNvSpPr/>
            <p:nvPr/>
          </p:nvSpPr>
          <p:spPr>
            <a:xfrm>
              <a:off x="3534120" y="3822840"/>
              <a:ext cx="4611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rth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meri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8"/>
            <p:cNvSpPr/>
            <p:nvPr/>
          </p:nvSpPr>
          <p:spPr>
            <a:xfrm>
              <a:off x="5196240" y="3970440"/>
              <a:ext cx="427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9"/>
            <p:cNvSpPr/>
            <p:nvPr/>
          </p:nvSpPr>
          <p:spPr>
            <a:xfrm>
              <a:off x="4709160" y="3862440"/>
              <a:ext cx="3970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reat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Britai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5227920" y="461340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fri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5981760" y="4842000"/>
              <a:ext cx="44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Equato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2"/>
            <p:cNvSpPr/>
            <p:nvPr/>
          </p:nvSpPr>
          <p:spPr>
            <a:xfrm>
              <a:off x="6148800" y="3970440"/>
              <a:ext cx="328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i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3"/>
            <p:cNvSpPr/>
            <p:nvPr/>
          </p:nvSpPr>
          <p:spPr>
            <a:xfrm>
              <a:off x="6812640" y="5229360"/>
              <a:ext cx="478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4"/>
            <p:cNvSpPr/>
            <p:nvPr/>
          </p:nvSpPr>
          <p:spPr>
            <a:xfrm>
              <a:off x="6892920" y="5688000"/>
              <a:ext cx="517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asmani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5"/>
            <p:cNvSpPr/>
            <p:nvPr/>
          </p:nvSpPr>
          <p:spPr>
            <a:xfrm>
              <a:off x="7137360" y="561024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16"/>
            <p:cNvSpPr/>
            <p:nvPr/>
          </p:nvSpPr>
          <p:spPr>
            <a:xfrm>
              <a:off x="7285320" y="5745240"/>
              <a:ext cx="457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Zealan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7"/>
            <p:cNvSpPr/>
            <p:nvPr/>
          </p:nvSpPr>
          <p:spPr>
            <a:xfrm flipH="1">
              <a:off x="7483320" y="5518080"/>
              <a:ext cx="36720" cy="24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7165800" y="4640400"/>
              <a:ext cx="4809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PACIFIC</a:t>
              </a:r>
              <a:br>
                <a:rPr sz="600"/>
              </a:b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OCE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19"/>
            <p:cNvSpPr/>
            <p:nvPr/>
          </p:nvSpPr>
          <p:spPr>
            <a:xfrm>
              <a:off x="4163760" y="4259160"/>
              <a:ext cx="5493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ATLANTIC</a:t>
              </a:r>
              <a:br>
                <a:rPr sz="600"/>
              </a:b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OCE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20"/>
            <p:cNvSpPr/>
            <p:nvPr/>
          </p:nvSpPr>
          <p:spPr>
            <a:xfrm>
              <a:off x="3082680" y="4486320"/>
              <a:ext cx="4809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PACIFIC</a:t>
              </a:r>
              <a:br>
                <a:rPr sz="600"/>
              </a:b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OCE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21"/>
            <p:cNvSpPr/>
            <p:nvPr/>
          </p:nvSpPr>
          <p:spPr>
            <a:xfrm>
              <a:off x="2992320" y="4944960"/>
              <a:ext cx="4809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PACIFIC</a:t>
              </a:r>
              <a:br>
                <a:rPr sz="600"/>
              </a:b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OCE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22"/>
            <p:cNvSpPr/>
            <p:nvPr/>
          </p:nvSpPr>
          <p:spPr>
            <a:xfrm>
              <a:off x="1926720" y="49309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The</a:t>
              </a:r>
              <a:br>
                <a:rPr sz="600"/>
              </a:b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Galápagos</a:t>
              </a:r>
              <a:br>
                <a:rPr sz="600"/>
              </a:b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sland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23"/>
            <p:cNvSpPr/>
            <p:nvPr/>
          </p:nvSpPr>
          <p:spPr>
            <a:xfrm>
              <a:off x="4053240" y="4992840"/>
              <a:ext cx="4611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outh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meri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24"/>
            <p:cNvSpPr/>
            <p:nvPr/>
          </p:nvSpPr>
          <p:spPr>
            <a:xfrm>
              <a:off x="3836160" y="5916600"/>
              <a:ext cx="744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ierra del Fueg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25"/>
            <p:cNvSpPr/>
            <p:nvPr/>
          </p:nvSpPr>
          <p:spPr>
            <a:xfrm>
              <a:off x="4194000" y="5830920"/>
              <a:ext cx="0" cy="9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6"/>
            <p:cNvSpPr/>
            <p:nvPr/>
          </p:nvSpPr>
          <p:spPr>
            <a:xfrm>
              <a:off x="4442400" y="5775480"/>
              <a:ext cx="551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ape Hor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27"/>
            <p:cNvSpPr/>
            <p:nvPr/>
          </p:nvSpPr>
          <p:spPr>
            <a:xfrm>
              <a:off x="4784760" y="5405400"/>
              <a:ext cx="5724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ape of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ood Ho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28"/>
            <p:cNvSpPr/>
            <p:nvPr/>
          </p:nvSpPr>
          <p:spPr>
            <a:xfrm flipH="1">
              <a:off x="5151600" y="5481720"/>
              <a:ext cx="257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9"/>
            <p:cNvSpPr/>
            <p:nvPr/>
          </p:nvSpPr>
          <p:spPr>
            <a:xfrm>
              <a:off x="4273560" y="5851440"/>
              <a:ext cx="21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30"/>
            <p:cNvSpPr/>
            <p:nvPr/>
          </p:nvSpPr>
          <p:spPr>
            <a:xfrm flipH="1" rot="16200000">
              <a:off x="3917160" y="5389560"/>
              <a:ext cx="4334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nd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31"/>
            <p:cNvSpPr/>
            <p:nvPr/>
          </p:nvSpPr>
          <p:spPr>
            <a:xfrm>
              <a:off x="2538720" y="5078520"/>
              <a:ext cx="354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int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2454480" y="5281560"/>
              <a:ext cx="522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Marche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33"/>
            <p:cNvSpPr/>
            <p:nvPr/>
          </p:nvSpPr>
          <p:spPr>
            <a:xfrm>
              <a:off x="2946600" y="5202360"/>
              <a:ext cx="529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Genoves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34"/>
            <p:cNvSpPr/>
            <p:nvPr/>
          </p:nvSpPr>
          <p:spPr>
            <a:xfrm>
              <a:off x="3071880" y="5359320"/>
              <a:ext cx="44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Equato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35"/>
            <p:cNvSpPr/>
            <p:nvPr/>
          </p:nvSpPr>
          <p:spPr>
            <a:xfrm>
              <a:off x="2488320" y="5416560"/>
              <a:ext cx="48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Santiag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36"/>
            <p:cNvSpPr/>
            <p:nvPr/>
          </p:nvSpPr>
          <p:spPr>
            <a:xfrm>
              <a:off x="2188080" y="5803920"/>
              <a:ext cx="427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Isabel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37"/>
            <p:cNvSpPr/>
            <p:nvPr/>
          </p:nvSpPr>
          <p:spPr>
            <a:xfrm>
              <a:off x="1914840" y="5672160"/>
              <a:ext cx="56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Fernandi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38"/>
            <p:cNvSpPr/>
            <p:nvPr/>
          </p:nvSpPr>
          <p:spPr>
            <a:xfrm>
              <a:off x="2555640" y="6114960"/>
              <a:ext cx="47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Florenz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39"/>
            <p:cNvSpPr/>
            <p:nvPr/>
          </p:nvSpPr>
          <p:spPr>
            <a:xfrm>
              <a:off x="2947320" y="6140520"/>
              <a:ext cx="499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Español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40"/>
            <p:cNvSpPr/>
            <p:nvPr/>
          </p:nvSpPr>
          <p:spPr>
            <a:xfrm>
              <a:off x="3015360" y="5904000"/>
              <a:ext cx="4824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San</a:t>
              </a:r>
              <a:br>
                <a:rPr sz="600"/>
              </a:b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Cristob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1"/>
            <p:cNvSpPr/>
            <p:nvPr/>
          </p:nvSpPr>
          <p:spPr>
            <a:xfrm>
              <a:off x="2535480" y="5819760"/>
              <a:ext cx="3805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anta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ruz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42"/>
            <p:cNvSpPr/>
            <p:nvPr/>
          </p:nvSpPr>
          <p:spPr>
            <a:xfrm>
              <a:off x="2765520" y="5853240"/>
              <a:ext cx="3805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Santa</a:t>
              </a:r>
              <a:br>
                <a:rPr sz="600"/>
              </a:b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43"/>
            <p:cNvSpPr/>
            <p:nvPr/>
          </p:nvSpPr>
          <p:spPr>
            <a:xfrm>
              <a:off x="2451960" y="5624640"/>
              <a:ext cx="414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Pinzó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44"/>
            <p:cNvSpPr/>
            <p:nvPr/>
          </p:nvSpPr>
          <p:spPr>
            <a:xfrm>
              <a:off x="2858400" y="5505480"/>
              <a:ext cx="448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Daphne</a:t>
              </a:r>
              <a:br>
                <a:rPr sz="600"/>
              </a:b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Island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45"/>
            <p:cNvSpPr/>
            <p:nvPr/>
          </p:nvSpPr>
          <p:spPr>
            <a:xfrm flipV="1">
              <a:off x="2770200" y="5575320"/>
              <a:ext cx="16524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46"/>
            <p:cNvSpPr/>
            <p:nvPr/>
          </p:nvSpPr>
          <p:spPr>
            <a:xfrm flipH="1">
              <a:off x="2798640" y="5568840"/>
              <a:ext cx="136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47"/>
            <p:cNvSpPr/>
            <p:nvPr/>
          </p:nvSpPr>
          <p:spPr>
            <a:xfrm>
              <a:off x="2373480" y="6200640"/>
              <a:ext cx="46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 mil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48"/>
            <p:cNvSpPr/>
            <p:nvPr/>
          </p:nvSpPr>
          <p:spPr>
            <a:xfrm>
              <a:off x="2182320" y="6062760"/>
              <a:ext cx="38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 k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49"/>
            <p:cNvSpPr/>
            <p:nvPr/>
          </p:nvSpPr>
          <p:spPr>
            <a:xfrm>
              <a:off x="1931760" y="6091200"/>
              <a:ext cx="24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50"/>
            <p:cNvSpPr/>
            <p:nvPr/>
          </p:nvSpPr>
          <p:spPr>
            <a:xfrm>
              <a:off x="1931760" y="6221520"/>
              <a:ext cx="24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53"/>
            <p:cNvSpPr/>
            <p:nvPr/>
          </p:nvSpPr>
          <p:spPr>
            <a:xfrm>
              <a:off x="882720" y="61531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Rectangle 56"/>
          <p:cNvSpPr/>
          <p:nvPr/>
        </p:nvSpPr>
        <p:spPr>
          <a:xfrm>
            <a:off x="3629160" y="4842000"/>
            <a:ext cx="147600" cy="114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04920" y="685800"/>
            <a:ext cx="853416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rwin’s experiences during the voyage of the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Beagle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helped him frame his ideas on evolu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33480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pecies evolve as a result of their interactions with their environmen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33480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arwin was influenced by Lyell’s Principles of Geology, in which he promoted the idea of continual, gradual, and consistent geological chang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33480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arwin coined the term, decent with modification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33480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 unity among organisms related through descent from an ancestor that lived in the remote pas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33480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ver millions of years they accumulated diveses adaptations that allowed them to surviv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33480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WAS DARWIN’S PHRASE FOR EVOLUTION? WHAT DOES IT MEAN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tivity 13B: The Voyage of the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Beagle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Darwin's Trip Around the World (13.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04920" y="685800"/>
            <a:ext cx="853416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2 Darwin proposed natural selection as the mechanism of evol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1756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rwin observed that organism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3348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oduce more offspring than the environment can suppor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3348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ary in many characteristics that can be inherite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04920" y="68544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rwin reasoned that natural selec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sults in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favored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traits being represented more and more an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unfavored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ones less and less in ensuing generations of organism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arwin observed that species tend to produce excessive numbers of offspring, that the expression of traits varies among the individuals of a population, and that many of these traits are heritabl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e75c01"/>
                </a:solidFill>
                <a:latin typeface="Century Schoolbook"/>
              </a:rPr>
              <a:t>WHAT DO OVERPRODUCTION OF OFFSPRING, AND HERITABLE VARIATIONS HAVE TO DO WITH ORGANISMS BECOMING ADAPTED TO THEIR ENVIRONMENT?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2634840"/>
            <a:ext cx="746748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Every environment has a limited supply of resourc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 Survival in a limited environment depends in part on the features the organisms inherit from their parent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. Those with characteristics favored the environment went on to reprodu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. Darwin referred to this process 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en-US" sz="2400" spc="-1" strike="noStrike" u="sng">
                <a:solidFill>
                  <a:srgbClr val="e75c01"/>
                </a:solidFill>
                <a:uFillTx/>
                <a:latin typeface="Century Schoolbook"/>
              </a:rPr>
              <a:t>Natural Sele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5480" indent="-34272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rwin found convincing evidence for his ideas in the results of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artificial selec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41400" indent="-5713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selective breeding of domesticated plants and animals (modifying specie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6"/>
          <p:cNvGrpSpPr/>
          <p:nvPr/>
        </p:nvGrpSpPr>
        <p:grpSpPr>
          <a:xfrm>
            <a:off x="420840" y="2773440"/>
            <a:ext cx="8299440" cy="3591000"/>
            <a:chOff x="420840" y="2773440"/>
            <a:chExt cx="8299440" cy="3591000"/>
          </a:xfrm>
        </p:grpSpPr>
        <p:pic>
          <p:nvPicPr>
            <p:cNvPr id="441" name="Picture 5" descr="_x001e_13_02aArtifSelectPlants_UP.jpg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420840" y="2773440"/>
              <a:ext cx="2862360" cy="33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Text Box 11"/>
            <p:cNvSpPr/>
            <p:nvPr/>
          </p:nvSpPr>
          <p:spPr>
            <a:xfrm>
              <a:off x="1360800" y="60879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2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3" name="Picture 7" descr="_x001d_13_02BArtifSelectDogs_CNL.jpg                                  0050CFAB_x0003_203                            BE61E8D3:"/>
            <p:cNvPicPr/>
            <p:nvPr/>
          </p:nvPicPr>
          <p:blipFill>
            <a:blip r:embed="rId2"/>
            <a:stretch/>
          </p:blipFill>
          <p:spPr>
            <a:xfrm>
              <a:off x="3821040" y="3008160"/>
              <a:ext cx="4899240" cy="31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Text Box 8"/>
            <p:cNvSpPr/>
            <p:nvPr/>
          </p:nvSpPr>
          <p:spPr>
            <a:xfrm>
              <a:off x="5407200" y="5036760"/>
              <a:ext cx="1764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undreds to thousands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years of breeding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rtificial selectio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9"/>
            <p:cNvSpPr/>
            <p:nvPr/>
          </p:nvSpPr>
          <p:spPr>
            <a:xfrm>
              <a:off x="5508360" y="5727600"/>
              <a:ext cx="153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cestral dog (wolf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2"/>
            <p:cNvSpPr/>
            <p:nvPr/>
          </p:nvSpPr>
          <p:spPr>
            <a:xfrm>
              <a:off x="5780520" y="607680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2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04920" y="241200"/>
            <a:ext cx="8534160" cy="14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rwin proposed that living speci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re descended from earlier life forms and that natural selection is the mechanism of evolu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36"/>
          <p:cNvGrpSpPr/>
          <p:nvPr/>
        </p:nvGrpSpPr>
        <p:grpSpPr>
          <a:xfrm>
            <a:off x="213120" y="3681360"/>
            <a:ext cx="6234840" cy="2886480"/>
            <a:chOff x="213120" y="3681360"/>
            <a:chExt cx="6234840" cy="2886480"/>
          </a:xfrm>
        </p:grpSpPr>
        <p:pic>
          <p:nvPicPr>
            <p:cNvPr id="450" name="Picture 34" descr="_x001d_13_02cCanineNatSelect_CNL.jpg                                  0050CFAB_x0003_203                            BE723100:"/>
            <p:cNvPicPr/>
            <p:nvPr/>
          </p:nvPicPr>
          <p:blipFill>
            <a:blip r:embed="rId1"/>
            <a:stretch/>
          </p:blipFill>
          <p:spPr>
            <a:xfrm>
              <a:off x="712080" y="3681360"/>
              <a:ext cx="573588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Text Box 24"/>
            <p:cNvSpPr/>
            <p:nvPr/>
          </p:nvSpPr>
          <p:spPr>
            <a:xfrm>
              <a:off x="2969280" y="5539320"/>
              <a:ext cx="123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ousands to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llions of years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 natural sel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25"/>
            <p:cNvSpPr/>
            <p:nvPr/>
          </p:nvSpPr>
          <p:spPr>
            <a:xfrm>
              <a:off x="3027960" y="6227640"/>
              <a:ext cx="111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cestral can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26"/>
            <p:cNvSpPr/>
            <p:nvPr/>
          </p:nvSpPr>
          <p:spPr>
            <a:xfrm>
              <a:off x="961560" y="5059800"/>
              <a:ext cx="1070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frican wild do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27"/>
            <p:cNvSpPr/>
            <p:nvPr/>
          </p:nvSpPr>
          <p:spPr>
            <a:xfrm>
              <a:off x="2215800" y="505980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yo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28"/>
            <p:cNvSpPr/>
            <p:nvPr/>
          </p:nvSpPr>
          <p:spPr>
            <a:xfrm>
              <a:off x="3370680" y="5067000"/>
              <a:ext cx="43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ol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29"/>
            <p:cNvSpPr/>
            <p:nvPr/>
          </p:nvSpPr>
          <p:spPr>
            <a:xfrm>
              <a:off x="4426200" y="5069520"/>
              <a:ext cx="39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30"/>
            <p:cNvSpPr/>
            <p:nvPr/>
          </p:nvSpPr>
          <p:spPr>
            <a:xfrm>
              <a:off x="5396040" y="5063400"/>
              <a:ext cx="54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ack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32"/>
            <p:cNvSpPr/>
            <p:nvPr/>
          </p:nvSpPr>
          <p:spPr>
            <a:xfrm>
              <a:off x="213120" y="62913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2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9" name="Picture 7" descr="_x001d_13_02BArtifSelectDogs_CNL.jpg                                  0050CFAB_x0003_203                            BE61E8D3:"/>
          <p:cNvPicPr/>
          <p:nvPr/>
        </p:nvPicPr>
        <p:blipFill>
          <a:blip r:embed="rId2"/>
          <a:stretch/>
        </p:blipFill>
        <p:spPr>
          <a:xfrm>
            <a:off x="4871880" y="1324080"/>
            <a:ext cx="3908520" cy="2600280"/>
          </a:xfrm>
          <a:prstGeom prst="rect">
            <a:avLst/>
          </a:prstGeom>
          <a:ln w="0">
            <a:noFill/>
          </a:ln>
        </p:spPr>
      </p:pic>
      <p:sp>
        <p:nvSpPr>
          <p:cNvPr id="460" name="TextBox 14"/>
          <p:cNvSpPr/>
          <p:nvPr/>
        </p:nvSpPr>
        <p:spPr>
          <a:xfrm>
            <a:off x="376200" y="1647720"/>
            <a:ext cx="4424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ndreds to thousands of years of breeding (artificial sel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estral dog (wo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1" name="Straight Arrow Connector 16"/>
          <p:cNvCxnSpPr/>
          <p:nvPr/>
        </p:nvCxnSpPr>
        <p:spPr>
          <a:xfrm flipV="1">
            <a:off x="3741480" y="2164680"/>
            <a:ext cx="1130760" cy="13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62" name="Straight Arrow Connector 20"/>
          <p:cNvCxnSpPr/>
          <p:nvPr/>
        </p:nvCxnSpPr>
        <p:spPr>
          <a:xfrm>
            <a:off x="2382480" y="2947680"/>
            <a:ext cx="747000" cy="686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WO IMPORTANT POINTS CAN BE DRAWN FROM DARWIN’S THEORY OF NATURAL SELECTION: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Ancestral species gave rise to the diverse life forms by transfer of heritable traits to offspring that best promote reproduction. He called this </a:t>
            </a:r>
            <a:r>
              <a:rPr b="0" lang="en-US" sz="2400" spc="-1" strike="noStrike">
                <a:solidFill>
                  <a:srgbClr val="e75c01"/>
                </a:solidFill>
                <a:latin typeface="Century Schoolbook"/>
              </a:rPr>
              <a:t>“</a:t>
            </a:r>
            <a:r>
              <a:rPr b="1" i="1" lang="en-US" sz="2400" spc="-1" strike="noStrike">
                <a:solidFill>
                  <a:srgbClr val="e75c01"/>
                </a:solidFill>
                <a:latin typeface="Century Schoolbook"/>
              </a:rPr>
              <a:t>descent with modification</a:t>
            </a:r>
            <a:r>
              <a:rPr b="0" lang="en-US" sz="2400" spc="-1" strike="noStrike">
                <a:solidFill>
                  <a:srgbClr val="e75c01"/>
                </a:solidFill>
                <a:latin typeface="Century Schoolbook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Over vast amounts of time, the gradual accumulation of changes in the characteristics among the individuals in a population occu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232920" y="241200"/>
            <a:ext cx="8534520" cy="25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3 The study of fossils provides strong evidence for evol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44600" indent="-33012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ossils and the fossil record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17440" indent="-5587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rongly support the theory of evolu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26"/>
          <p:cNvGrpSpPr/>
          <p:nvPr/>
        </p:nvGrpSpPr>
        <p:grpSpPr>
          <a:xfrm>
            <a:off x="1534680" y="2370240"/>
            <a:ext cx="6838920" cy="4181040"/>
            <a:chOff x="1534680" y="2370240"/>
            <a:chExt cx="6838920" cy="4181040"/>
          </a:xfrm>
        </p:grpSpPr>
        <p:pic>
          <p:nvPicPr>
            <p:cNvPr id="468" name="Picture 12" descr="_x0013_13_03gIceMan_UP.jpg         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6383880" y="5076360"/>
              <a:ext cx="1740960" cy="13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6" descr="_x001d_13_03aHomoErectusSkull_UP.jpg                                  0050CFAB_x0003_203                            BE61E8D3:"/>
            <p:cNvPicPr/>
            <p:nvPr/>
          </p:nvPicPr>
          <p:blipFill>
            <a:blip r:embed="rId2"/>
            <a:stretch/>
          </p:blipFill>
          <p:spPr>
            <a:xfrm>
              <a:off x="5055120" y="2370240"/>
              <a:ext cx="1267920" cy="95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7" descr="_x001a_13_03bPetrifiedTree_UP.jpg                                     0050CFAB_x0003_203                            BE61E8D3:"/>
            <p:cNvPicPr/>
            <p:nvPr/>
          </p:nvPicPr>
          <p:blipFill>
            <a:blip r:embed="rId3"/>
            <a:stretch/>
          </p:blipFill>
          <p:spPr>
            <a:xfrm>
              <a:off x="3408840" y="3199680"/>
              <a:ext cx="145584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8" descr="_x001a_13_03cAmmoniteCasts_UP.jpg                                     0050CFAB_x0003_203                            BE61E8D3:"/>
            <p:cNvPicPr/>
            <p:nvPr/>
          </p:nvPicPr>
          <p:blipFill>
            <a:blip r:embed="rId4"/>
            <a:stretch/>
          </p:blipFill>
          <p:spPr>
            <a:xfrm>
              <a:off x="4903920" y="3661920"/>
              <a:ext cx="185364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9" descr="_x001b_13_03dDinosaurTracks_UP.jpg                                    0050CFAB_x0003_203                            BE61E8D3:"/>
            <p:cNvPicPr/>
            <p:nvPr/>
          </p:nvPicPr>
          <p:blipFill>
            <a:blip r:embed="rId5"/>
            <a:stretch/>
          </p:blipFill>
          <p:spPr>
            <a:xfrm>
              <a:off x="6805440" y="3195360"/>
              <a:ext cx="1568160" cy="171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10" descr="_x001b_13_03eFossilizedLeaf_UP.jpg                                    0050CFAB_x0003_203                            BE61E8D3:"/>
            <p:cNvPicPr/>
            <p:nvPr/>
          </p:nvPicPr>
          <p:blipFill>
            <a:blip r:embed="rId6"/>
            <a:stretch/>
          </p:blipFill>
          <p:spPr>
            <a:xfrm>
              <a:off x="3343680" y="5059440"/>
              <a:ext cx="1592280" cy="95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11" descr="_x0018_13_03fInsectAmber_UP.jpg                                       0050CFAB_x0003_203                            BE61E8D3:"/>
            <p:cNvPicPr/>
            <p:nvPr/>
          </p:nvPicPr>
          <p:blipFill>
            <a:blip r:embed="rId7"/>
            <a:stretch/>
          </p:blipFill>
          <p:spPr>
            <a:xfrm rot="10828200">
              <a:off x="4924440" y="5063760"/>
              <a:ext cx="1367640" cy="11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Text Box 13"/>
            <p:cNvSpPr/>
            <p:nvPr/>
          </p:nvSpPr>
          <p:spPr>
            <a:xfrm>
              <a:off x="5474160" y="3171600"/>
              <a:ext cx="84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Skull of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 Homo</a:t>
              </a:r>
              <a:br>
                <a:rPr sz="700"/>
              </a:b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erectu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4"/>
            <p:cNvSpPr/>
            <p:nvPr/>
          </p:nvSpPr>
          <p:spPr>
            <a:xfrm>
              <a:off x="7062120" y="4827960"/>
              <a:ext cx="904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Dinosaur track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5"/>
            <p:cNvSpPr/>
            <p:nvPr/>
          </p:nvSpPr>
          <p:spPr>
            <a:xfrm>
              <a:off x="5348160" y="4823640"/>
              <a:ext cx="919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Ammonite cast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6"/>
            <p:cNvSpPr/>
            <p:nvPr/>
          </p:nvSpPr>
          <p:spPr>
            <a:xfrm>
              <a:off x="3738600" y="4823640"/>
              <a:ext cx="792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Petrified tre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7"/>
            <p:cNvSpPr/>
            <p:nvPr/>
          </p:nvSpPr>
          <p:spPr>
            <a:xfrm>
              <a:off x="3643560" y="5975640"/>
              <a:ext cx="99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Fossilized organic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atter of a lea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19"/>
            <p:cNvSpPr/>
            <p:nvPr/>
          </p:nvSpPr>
          <p:spPr>
            <a:xfrm>
              <a:off x="6918120" y="6149160"/>
              <a:ext cx="66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“Ice Man”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1"/>
            <p:cNvSpPr/>
            <p:nvPr/>
          </p:nvSpPr>
          <p:spPr>
            <a:xfrm>
              <a:off x="1534680" y="6274800"/>
              <a:ext cx="130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3A–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4"/>
            <p:cNvSpPr/>
            <p:nvPr/>
          </p:nvSpPr>
          <p:spPr>
            <a:xfrm>
              <a:off x="5168520" y="5922720"/>
              <a:ext cx="88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F  Insect in amb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53880" y="153684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“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NOTHING IN BIOLOGY MAKES SENSE EXCEPT IN THE LIGHT OF EVOLUTION.”  T. DOBZHANSK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238120" y="3921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04920" y="685800"/>
            <a:ext cx="8534160" cy="16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5480" indent="-34272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fossil record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6200" indent="-54612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veals that organisms have evolved in a historical sequenc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28"/>
          <p:cNvGrpSpPr/>
          <p:nvPr/>
        </p:nvGrpSpPr>
        <p:grpSpPr>
          <a:xfrm>
            <a:off x="1659240" y="2266920"/>
            <a:ext cx="5533560" cy="4191120"/>
            <a:chOff x="1659240" y="2266920"/>
            <a:chExt cx="5533560" cy="4191120"/>
          </a:xfrm>
        </p:grpSpPr>
        <p:pic>
          <p:nvPicPr>
            <p:cNvPr id="486" name="Picture 23" descr="_x0017_13_03hRockStrata_UP.jpg     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2695680" y="2266920"/>
              <a:ext cx="449712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Text Box 26"/>
            <p:cNvSpPr/>
            <p:nvPr/>
          </p:nvSpPr>
          <p:spPr>
            <a:xfrm>
              <a:off x="1659240" y="61293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3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04920" y="685800"/>
            <a:ext cx="8534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ny fossils link early extinct species with species living toda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17"/>
          <p:cNvGrpSpPr/>
          <p:nvPr/>
        </p:nvGrpSpPr>
        <p:grpSpPr>
          <a:xfrm>
            <a:off x="1051200" y="2143080"/>
            <a:ext cx="7040160" cy="4351320"/>
            <a:chOff x="1051200" y="2143080"/>
            <a:chExt cx="7040160" cy="4351320"/>
          </a:xfrm>
        </p:grpSpPr>
        <p:pic>
          <p:nvPicPr>
            <p:cNvPr id="491" name="Picture 14" descr="_x001a_13_03IExtinctWhale_CNL.jpg  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2049480" y="2143080"/>
              <a:ext cx="60418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Text Box 15"/>
            <p:cNvSpPr/>
            <p:nvPr/>
          </p:nvSpPr>
          <p:spPr>
            <a:xfrm>
              <a:off x="1051200" y="6153120"/>
              <a:ext cx="103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3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TextBox 6"/>
          <p:cNvSpPr/>
          <p:nvPr/>
        </p:nvSpPr>
        <p:spPr>
          <a:xfrm>
            <a:off x="289080" y="1395360"/>
            <a:ext cx="65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losaurus, an extinct whale whose hind legs link living whales with their land-dwelling ances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13.4 A MASS OF OTHER EVIDENCE REINFORCES THE EVOLUTIONARY VIEW OF LIFE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Biogeograph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iogeography, the geographic distribution of speci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pecies at different geographical regions are similar to each oth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s suggested to Darwin that organisms evolve from common ancestor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rwin noted that Galápagos animal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sembled species of the South American mainland more than animals on similar but distant island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304920" y="685800"/>
            <a:ext cx="853416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Comparative anatom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Comparative anatom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the comparison of body structures in different speci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natomical similarities between many species give signs of common decen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r example, all mammals have the same basic limb structur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Homolog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the similarity in characteristics that result from common ancestr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04920" y="685800"/>
            <a:ext cx="8534160" cy="20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739440" indent="-31212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Homologous structur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663920" indent="-49680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re features that often have </a:t>
            </a:r>
            <a:r>
              <a:rPr b="1" i="1" lang="en-US" sz="1800" spc="-1" strike="noStrike">
                <a:solidFill>
                  <a:srgbClr val="e75c01"/>
                </a:solidFill>
                <a:latin typeface="Century Schoolbook"/>
              </a:rPr>
              <a:t>different functions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ut are </a:t>
            </a:r>
            <a:r>
              <a:rPr b="1" i="1" lang="en-US" sz="1800" spc="-1" strike="noStrike">
                <a:solidFill>
                  <a:srgbClr val="e75c01"/>
                </a:solidFill>
                <a:latin typeface="Century Schoolbook"/>
              </a:rPr>
              <a:t>structurally similar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ecause of common ancestr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663920" indent="-49680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volution is a remodeling process. 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Web activi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39440" indent="-31212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Vestigial orga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663920" indent="-49680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rgans that have no know function that are remains from ancestor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Group 22"/>
          <p:cNvGrpSpPr/>
          <p:nvPr/>
        </p:nvGrpSpPr>
        <p:grpSpPr>
          <a:xfrm>
            <a:off x="920880" y="2921040"/>
            <a:ext cx="6365880" cy="3367800"/>
            <a:chOff x="920880" y="2921040"/>
            <a:chExt cx="6365880" cy="3367800"/>
          </a:xfrm>
        </p:grpSpPr>
        <p:pic>
          <p:nvPicPr>
            <p:cNvPr id="502" name="Picture 15" descr="_x001f_13_04aHomologousForelimbs_U.jpg                                0050CFAB_x0003_203                            BE61E8D3:"/>
            <p:cNvPicPr/>
            <p:nvPr/>
          </p:nvPicPr>
          <p:blipFill>
            <a:blip r:embed="rId2"/>
            <a:stretch/>
          </p:blipFill>
          <p:spPr>
            <a:xfrm>
              <a:off x="2079720" y="2921040"/>
              <a:ext cx="5207040" cy="30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Text Box 16"/>
            <p:cNvSpPr/>
            <p:nvPr/>
          </p:nvSpPr>
          <p:spPr>
            <a:xfrm>
              <a:off x="2132280" y="5951520"/>
              <a:ext cx="83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um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17"/>
            <p:cNvSpPr/>
            <p:nvPr/>
          </p:nvSpPr>
          <p:spPr>
            <a:xfrm>
              <a:off x="3349800" y="594036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4763520" y="594036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6487920" y="594216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20"/>
            <p:cNvSpPr/>
            <p:nvPr/>
          </p:nvSpPr>
          <p:spPr>
            <a:xfrm>
              <a:off x="920880" y="60073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4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Comparative Embryolog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12880" indent="-33012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parative embryology is the comparison of early stages of development among different organism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04920" y="685800"/>
            <a:ext cx="8534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3048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ny vertebrat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28800" indent="-55872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ave common embryonic structur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11" name="Group 36"/>
          <p:cNvGrpSpPr/>
          <p:nvPr/>
        </p:nvGrpSpPr>
        <p:grpSpPr>
          <a:xfrm>
            <a:off x="615960" y="254160"/>
            <a:ext cx="8020080" cy="5707080"/>
            <a:chOff x="615960" y="254160"/>
            <a:chExt cx="8020080" cy="5707080"/>
          </a:xfrm>
        </p:grpSpPr>
        <p:sp>
          <p:nvSpPr>
            <p:cNvPr id="512" name="FlagCount" hidden="1"/>
            <p:cNvSpPr/>
            <p:nvPr/>
          </p:nvSpPr>
          <p:spPr>
            <a:xfrm>
              <a:off x="8255160" y="254160"/>
              <a:ext cx="380880" cy="3175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e8637">
                <a:alpha val="25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3" name="Picture 17" descr="_x001b_13_04bEmbryoHomology_UP.jpg 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615960" y="2405160"/>
              <a:ext cx="7959600" cy="32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Line 18"/>
            <p:cNvSpPr/>
            <p:nvPr/>
          </p:nvSpPr>
          <p:spPr>
            <a:xfrm flipV="1">
              <a:off x="2128680" y="4908600"/>
              <a:ext cx="1384560" cy="3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19"/>
            <p:cNvSpPr/>
            <p:nvPr/>
          </p:nvSpPr>
          <p:spPr>
            <a:xfrm flipH="1">
              <a:off x="4403880" y="3917880"/>
              <a:ext cx="2388960" cy="10159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20"/>
            <p:cNvSpPr/>
            <p:nvPr/>
          </p:nvSpPr>
          <p:spPr>
            <a:xfrm>
              <a:off x="3491640" y="4768920"/>
              <a:ext cx="93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st-an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21"/>
            <p:cNvSpPr/>
            <p:nvPr/>
          </p:nvSpPr>
          <p:spPr>
            <a:xfrm>
              <a:off x="1996920" y="3208320"/>
              <a:ext cx="1473480" cy="27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23"/>
            <p:cNvSpPr/>
            <p:nvPr/>
          </p:nvSpPr>
          <p:spPr>
            <a:xfrm>
              <a:off x="3485520" y="3359160"/>
              <a:ext cx="108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harynge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uch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24"/>
            <p:cNvSpPr/>
            <p:nvPr/>
          </p:nvSpPr>
          <p:spPr>
            <a:xfrm flipH="1">
              <a:off x="4537080" y="3309840"/>
              <a:ext cx="2124000" cy="192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5"/>
            <p:cNvSpPr/>
            <p:nvPr/>
          </p:nvSpPr>
          <p:spPr>
            <a:xfrm flipH="1">
              <a:off x="4557240" y="3422520"/>
              <a:ext cx="2325960" cy="81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26"/>
            <p:cNvSpPr/>
            <p:nvPr/>
          </p:nvSpPr>
          <p:spPr>
            <a:xfrm>
              <a:off x="709560" y="5475240"/>
              <a:ext cx="127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ick embr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27"/>
            <p:cNvSpPr/>
            <p:nvPr/>
          </p:nvSpPr>
          <p:spPr>
            <a:xfrm>
              <a:off x="4793040" y="5468760"/>
              <a:ext cx="139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uman embr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28"/>
            <p:cNvSpPr/>
            <p:nvPr/>
          </p:nvSpPr>
          <p:spPr>
            <a:xfrm>
              <a:off x="3473640" y="56847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4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2"/>
            <p:cNvSpPr/>
            <p:nvPr/>
          </p:nvSpPr>
          <p:spPr>
            <a:xfrm>
              <a:off x="2071800" y="3041640"/>
              <a:ext cx="1401480" cy="43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33"/>
            <p:cNvSpPr/>
            <p:nvPr/>
          </p:nvSpPr>
          <p:spPr>
            <a:xfrm flipH="1">
              <a:off x="4537080" y="3305160"/>
              <a:ext cx="2124000" cy="19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34"/>
            <p:cNvSpPr/>
            <p:nvPr/>
          </p:nvSpPr>
          <p:spPr>
            <a:xfrm flipH="1">
              <a:off x="4552920" y="3417840"/>
              <a:ext cx="2325600" cy="81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35"/>
            <p:cNvSpPr/>
            <p:nvPr/>
          </p:nvSpPr>
          <p:spPr>
            <a:xfrm flipH="1">
              <a:off x="4412880" y="3913200"/>
              <a:ext cx="2389320" cy="101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Molecular Biolog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parisons of DNA and amino acid sequences between different organism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veal evolutionary relationship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16"/>
          <p:cNvGrpSpPr/>
          <p:nvPr/>
        </p:nvGrpSpPr>
        <p:grpSpPr>
          <a:xfrm>
            <a:off x="2419200" y="2238480"/>
            <a:ext cx="4559040" cy="4198320"/>
            <a:chOff x="2419200" y="2238480"/>
            <a:chExt cx="4559040" cy="4198320"/>
          </a:xfrm>
        </p:grpSpPr>
        <p:pic>
          <p:nvPicPr>
            <p:cNvPr id="531" name="Picture 12" descr="_x001a_13_04ProteinHomology_T.jpg  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3513240" y="2238480"/>
              <a:ext cx="3465000" cy="41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Text Box 13"/>
            <p:cNvSpPr/>
            <p:nvPr/>
          </p:nvSpPr>
          <p:spPr>
            <a:xfrm>
              <a:off x="2419200" y="6059160"/>
              <a:ext cx="92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ble 13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N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5 Scientists can observe natural selection in a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amouflage adaptations that evolved in different environments are examples of the results of natural selection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11"/>
          <p:cNvGrpSpPr/>
          <p:nvPr/>
        </p:nvGrpSpPr>
        <p:grpSpPr>
          <a:xfrm>
            <a:off x="4721400" y="3892680"/>
            <a:ext cx="3278160" cy="2563920"/>
            <a:chOff x="4721400" y="3892680"/>
            <a:chExt cx="3278160" cy="2563920"/>
          </a:xfrm>
        </p:grpSpPr>
        <p:grpSp>
          <p:nvGrpSpPr>
            <p:cNvPr id="537" name="Group 5"/>
            <p:cNvGrpSpPr/>
            <p:nvPr/>
          </p:nvGrpSpPr>
          <p:grpSpPr>
            <a:xfrm>
              <a:off x="5749920" y="3892680"/>
              <a:ext cx="2249640" cy="2560680"/>
              <a:chOff x="5749920" y="3892680"/>
              <a:chExt cx="2249640" cy="2560680"/>
            </a:xfrm>
          </p:grpSpPr>
          <p:pic>
            <p:nvPicPr>
              <p:cNvPr id="538" name="Picture 6" descr="_x001e_13_05aCamouflageMimicry_UP.jpg                                 0050CFAB_x0003_203                            BE61E8D3:"/>
              <p:cNvPicPr/>
              <p:nvPr/>
            </p:nvPicPr>
            <p:blipFill>
              <a:blip r:embed="rId1"/>
              <a:stretch/>
            </p:blipFill>
            <p:spPr>
              <a:xfrm>
                <a:off x="5749920" y="3892680"/>
                <a:ext cx="2249640" cy="256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Text Box 7"/>
              <p:cNvSpPr/>
              <p:nvPr/>
            </p:nvSpPr>
            <p:spPr>
              <a:xfrm>
                <a:off x="5819040" y="3993840"/>
                <a:ext cx="944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 flower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antid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n Malays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Text Box 8"/>
              <p:cNvSpPr/>
              <p:nvPr/>
            </p:nvSpPr>
            <p:spPr>
              <a:xfrm>
                <a:off x="5819400" y="5159520"/>
                <a:ext cx="202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 leaf mantid in Costa Ric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Text Box 9"/>
            <p:cNvSpPr/>
            <p:nvPr/>
          </p:nvSpPr>
          <p:spPr>
            <a:xfrm>
              <a:off x="4721400" y="61801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5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04920" y="181080"/>
            <a:ext cx="8534160" cy="22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velopment of pesticide resistance in insect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another example of natural selection in ac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se two examples illustrate that natural selection is an editing process, not a creative mechanism. They also show that natural selection is regional, timely, and can occur rapidly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6"/>
          <p:cNvGrpSpPr/>
          <p:nvPr/>
        </p:nvGrpSpPr>
        <p:grpSpPr>
          <a:xfrm>
            <a:off x="1847880" y="2530440"/>
            <a:ext cx="5924520" cy="3735720"/>
            <a:chOff x="1847880" y="2530440"/>
            <a:chExt cx="5924520" cy="3735720"/>
          </a:xfrm>
        </p:grpSpPr>
        <p:pic>
          <p:nvPicPr>
            <p:cNvPr id="545" name="Picture 6" descr="_x001f_13_05bPesticidResistanc_CNL.jpg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3632040" y="2530440"/>
              <a:ext cx="4140360" cy="365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Text Box 7"/>
            <p:cNvSpPr/>
            <p:nvPr/>
          </p:nvSpPr>
          <p:spPr>
            <a:xfrm>
              <a:off x="6317640" y="4105080"/>
              <a:ext cx="132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esticide 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8"/>
            <p:cNvSpPr/>
            <p:nvPr/>
          </p:nvSpPr>
          <p:spPr>
            <a:xfrm>
              <a:off x="5656320" y="478152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rviv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9"/>
            <p:cNvSpPr/>
            <p:nvPr/>
          </p:nvSpPr>
          <p:spPr>
            <a:xfrm>
              <a:off x="3163320" y="3828960"/>
              <a:ext cx="1514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romosome with gen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erring resistanc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pestici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10"/>
            <p:cNvSpPr/>
            <p:nvPr/>
          </p:nvSpPr>
          <p:spPr>
            <a:xfrm flipH="1">
              <a:off x="3930120" y="3811680"/>
              <a:ext cx="2103480" cy="47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11"/>
            <p:cNvSpPr/>
            <p:nvPr/>
          </p:nvSpPr>
          <p:spPr>
            <a:xfrm>
              <a:off x="3165480" y="4924440"/>
              <a:ext cx="13680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itional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pplications of th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me pesticide will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e less effective, and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e frequency of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istant insects in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e population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ll gr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2"/>
            <p:cNvSpPr/>
            <p:nvPr/>
          </p:nvSpPr>
          <p:spPr>
            <a:xfrm>
              <a:off x="3801960" y="613872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14"/>
            <p:cNvSpPr/>
            <p:nvPr/>
          </p:nvSpPr>
          <p:spPr>
            <a:xfrm>
              <a:off x="1847880" y="59896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5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own, Fool, or Simply Well Adapte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5480" indent="-3556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blue-footed boob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03240" indent="-5457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a type of bird living in the Galápagos Island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_x001e_13_UN254BlueFootedBooby_UP.jpg                                 0050CFAB_x0003_203                            BE77EE71:"/>
          <p:cNvPicPr/>
          <p:nvPr/>
        </p:nvPicPr>
        <p:blipFill>
          <a:blip r:embed="rId1"/>
          <a:stretch/>
        </p:blipFill>
        <p:spPr>
          <a:xfrm>
            <a:off x="2733840" y="3403440"/>
            <a:ext cx="358920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9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 WHAT SENSE IS NATURAL SELECTION MORE OF AN EDITING PROCESS THAN A CREATIVE PROCES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6840" y="4066920"/>
            <a:ext cx="7467480" cy="24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POPULATION GENETICS AND THE MODERN SYNTHESI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04920" y="1359000"/>
            <a:ext cx="853416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6 Populations are the units of evol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4507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2100" spc="-1" strike="noStrike">
                <a:solidFill>
                  <a:srgbClr val="e75c01"/>
                </a:solidFill>
                <a:latin typeface="Century Schoolbook"/>
              </a:rPr>
              <a:t>Popul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a group of individuals of the same species living in the same place at the same tim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4507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e75c01"/>
                </a:solidFill>
                <a:latin typeface="Century Schoolbook"/>
              </a:rPr>
              <a:t>	</a:t>
            </a:r>
            <a:r>
              <a:rPr b="1" i="1" lang="en-US" sz="2100" spc="-1" strike="noStrike">
                <a:solidFill>
                  <a:srgbClr val="e75c01"/>
                </a:solidFill>
                <a:latin typeface="Century Schoolbook"/>
              </a:rPr>
              <a:t>Species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s a group of populatio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hose individuals can interbreed and produce fertile offspring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 population is the smallest unit that can evolv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increase of resistant insects in areas sprayed with pesticides is a good example of a population evoloving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atural selection favored genes that were resistan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362320" indent="-533520">
              <a:spcBef>
                <a:spcPts val="400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hese insects left more offspring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362320" indent="-533520">
              <a:spcBef>
                <a:spcPts val="400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he population changed or evolved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304920" y="685440"/>
            <a:ext cx="8534160" cy="56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opulation genetics (1920’s) – combined the teachings of Darwin and Mende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udies how populations change genetically over tim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modern synthesis (1940’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onnects Darwin’s theory with population genetic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.e. populations are the unit of evolution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ey Features of Populations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opulations may be isolated from others of the same species, with little interbreeding and thus little exchange of gene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lands, mountain rang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04920" y="685800"/>
            <a:ext cx="853416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 gene pool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the total collection of genes in a population at any one tim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lleles in all the individuals within a population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icroevolu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a change in the relative frequencies of alleles in a gene poo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.e. alleles for pesticide resistanc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Y CAN’T AN INDIVIDUAL EVOLV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304920" y="685800"/>
            <a:ext cx="853416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7 The gene pool of a nonevolving population remains constant over the genera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entury Schoolbook"/>
              </a:rPr>
              <a:t>nonevolving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popul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shuffling of alleles that accompanies sexual reproduction does not alter the genetic makeup of the population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o matter how many times alleles are shuffled , the frequency of each allele is the gene pool remains the sam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51"/>
          <p:cNvGrpSpPr/>
          <p:nvPr/>
        </p:nvGrpSpPr>
        <p:grpSpPr>
          <a:xfrm>
            <a:off x="2854440" y="4029120"/>
            <a:ext cx="3456360" cy="2406960"/>
            <a:chOff x="2854440" y="4029120"/>
            <a:chExt cx="3456360" cy="2406960"/>
          </a:xfrm>
        </p:grpSpPr>
        <p:pic>
          <p:nvPicPr>
            <p:cNvPr id="567" name="Picture 41" descr="_x001d_13_07aImaginargyBoobies_U.jpg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4001760" y="4029120"/>
              <a:ext cx="2292120" cy="20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Text Box 42"/>
            <p:cNvSpPr/>
            <p:nvPr/>
          </p:nvSpPr>
          <p:spPr>
            <a:xfrm>
              <a:off x="4107600" y="615636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bb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43"/>
            <p:cNvSpPr/>
            <p:nvPr/>
          </p:nvSpPr>
          <p:spPr>
            <a:xfrm>
              <a:off x="5322240" y="615636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 webb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" name="Group 47"/>
            <p:cNvGrpSpPr/>
            <p:nvPr/>
          </p:nvGrpSpPr>
          <p:grpSpPr>
            <a:xfrm>
              <a:off x="4478040" y="5680080"/>
              <a:ext cx="1583280" cy="495360"/>
              <a:chOff x="4478040" y="5680080"/>
              <a:chExt cx="1583280" cy="495360"/>
            </a:xfrm>
          </p:grpSpPr>
          <p:sp>
            <p:nvSpPr>
              <p:cNvPr id="571" name="Line 44"/>
              <p:cNvSpPr/>
              <p:nvPr/>
            </p:nvSpPr>
            <p:spPr>
              <a:xfrm flipH="1">
                <a:off x="4478040" y="5680080"/>
                <a:ext cx="288720" cy="49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45"/>
              <p:cNvSpPr/>
              <p:nvPr/>
            </p:nvSpPr>
            <p:spPr>
              <a:xfrm flipH="1">
                <a:off x="5788800" y="5746680"/>
                <a:ext cx="272520" cy="426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Text Box 49"/>
            <p:cNvSpPr/>
            <p:nvPr/>
          </p:nvSpPr>
          <p:spPr>
            <a:xfrm>
              <a:off x="2854440" y="615960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7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304920" y="685440"/>
            <a:ext cx="853416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928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Hardy-Weinberg equilibrium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96920" indent="-533520">
              <a:spcBef>
                <a:spcPts val="6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tates that the shuffling of genes during sexual reproduction does not alter the proportions of different alleles in a gene poo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51"/>
          <p:cNvGrpSpPr/>
          <p:nvPr/>
        </p:nvGrpSpPr>
        <p:grpSpPr>
          <a:xfrm>
            <a:off x="1530720" y="2719440"/>
            <a:ext cx="6414840" cy="3706920"/>
            <a:chOff x="1530720" y="2719440"/>
            <a:chExt cx="6414840" cy="3706920"/>
          </a:xfrm>
        </p:grpSpPr>
        <p:pic>
          <p:nvPicPr>
            <p:cNvPr id="577" name="Picture 6" descr="_x0019_13_07bBoobyGenePool_U.jpg   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2633760" y="2719440"/>
              <a:ext cx="5311800" cy="37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7"/>
            <p:cNvSpPr/>
            <p:nvPr/>
          </p:nvSpPr>
          <p:spPr>
            <a:xfrm>
              <a:off x="2850120" y="3108240"/>
              <a:ext cx="8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enotyp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8"/>
            <p:cNvSpPr/>
            <p:nvPr/>
          </p:nvSpPr>
          <p:spPr>
            <a:xfrm>
              <a:off x="2847960" y="3681360"/>
              <a:ext cx="79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otyp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9"/>
            <p:cNvSpPr/>
            <p:nvPr/>
          </p:nvSpPr>
          <p:spPr>
            <a:xfrm>
              <a:off x="4621680" y="3681360"/>
              <a:ext cx="418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10"/>
            <p:cNvSpPr/>
            <p:nvPr/>
          </p:nvSpPr>
          <p:spPr>
            <a:xfrm>
              <a:off x="5748120" y="368136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11"/>
            <p:cNvSpPr/>
            <p:nvPr/>
          </p:nvSpPr>
          <p:spPr>
            <a:xfrm>
              <a:off x="6849000" y="3684600"/>
              <a:ext cx="3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12"/>
            <p:cNvSpPr/>
            <p:nvPr/>
          </p:nvSpPr>
          <p:spPr>
            <a:xfrm>
              <a:off x="2852640" y="3987720"/>
              <a:ext cx="123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umber of animals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total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50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13"/>
            <p:cNvSpPr/>
            <p:nvPr/>
          </p:nvSpPr>
          <p:spPr>
            <a:xfrm>
              <a:off x="4563720" y="398772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14"/>
            <p:cNvSpPr/>
            <p:nvPr/>
          </p:nvSpPr>
          <p:spPr>
            <a:xfrm>
              <a:off x="5708520" y="398772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15"/>
            <p:cNvSpPr/>
            <p:nvPr/>
          </p:nvSpPr>
          <p:spPr>
            <a:xfrm>
              <a:off x="6848280" y="39877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7"/>
            <p:cNvSpPr/>
            <p:nvPr/>
          </p:nvSpPr>
          <p:spPr>
            <a:xfrm>
              <a:off x="4524480" y="457344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8"/>
            <p:cNvSpPr/>
            <p:nvPr/>
          </p:nvSpPr>
          <p:spPr>
            <a:xfrm>
              <a:off x="4434840" y="439272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19"/>
            <p:cNvSpPr/>
            <p:nvPr/>
          </p:nvSpPr>
          <p:spPr>
            <a:xfrm>
              <a:off x="2846520" y="4422600"/>
              <a:ext cx="141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otype frequenc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 Box 20"/>
            <p:cNvSpPr/>
            <p:nvPr/>
          </p:nvSpPr>
          <p:spPr>
            <a:xfrm>
              <a:off x="4691520" y="443232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22"/>
            <p:cNvSpPr/>
            <p:nvPr/>
          </p:nvSpPr>
          <p:spPr>
            <a:xfrm>
              <a:off x="5683320" y="457200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23"/>
            <p:cNvSpPr/>
            <p:nvPr/>
          </p:nvSpPr>
          <p:spPr>
            <a:xfrm>
              <a:off x="5581800" y="4365720"/>
              <a:ext cx="41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24"/>
            <p:cNvSpPr/>
            <p:nvPr/>
          </p:nvSpPr>
          <p:spPr>
            <a:xfrm>
              <a:off x="5853600" y="443088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26"/>
            <p:cNvSpPr/>
            <p:nvPr/>
          </p:nvSpPr>
          <p:spPr>
            <a:xfrm>
              <a:off x="6823080" y="4572000"/>
              <a:ext cx="24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27"/>
            <p:cNvSpPr/>
            <p:nvPr/>
          </p:nvSpPr>
          <p:spPr>
            <a:xfrm>
              <a:off x="6739200" y="4365720"/>
              <a:ext cx="41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28"/>
            <p:cNvSpPr/>
            <p:nvPr/>
          </p:nvSpPr>
          <p:spPr>
            <a:xfrm>
              <a:off x="7015320" y="443088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29"/>
            <p:cNvSpPr/>
            <p:nvPr/>
          </p:nvSpPr>
          <p:spPr>
            <a:xfrm>
              <a:off x="2851200" y="5000760"/>
              <a:ext cx="1162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umber of alleles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 gene pool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total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1,00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30"/>
            <p:cNvSpPr/>
            <p:nvPr/>
          </p:nvSpPr>
          <p:spPr>
            <a:xfrm>
              <a:off x="2844000" y="5864400"/>
              <a:ext cx="1175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llele frequenc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31"/>
            <p:cNvSpPr/>
            <p:nvPr/>
          </p:nvSpPr>
          <p:spPr>
            <a:xfrm>
              <a:off x="4743360" y="600084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32"/>
            <p:cNvSpPr/>
            <p:nvPr/>
          </p:nvSpPr>
          <p:spPr>
            <a:xfrm>
              <a:off x="4634280" y="5821200"/>
              <a:ext cx="4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33"/>
            <p:cNvSpPr/>
            <p:nvPr/>
          </p:nvSpPr>
          <p:spPr>
            <a:xfrm>
              <a:off x="4948200" y="5859360"/>
              <a:ext cx="64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36"/>
            <p:cNvSpPr/>
            <p:nvPr/>
          </p:nvSpPr>
          <p:spPr>
            <a:xfrm>
              <a:off x="6501600" y="5859360"/>
              <a:ext cx="61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37"/>
            <p:cNvSpPr/>
            <p:nvPr/>
          </p:nvSpPr>
          <p:spPr>
            <a:xfrm>
              <a:off x="4496400" y="5016600"/>
              <a:ext cx="54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40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38"/>
            <p:cNvSpPr/>
            <p:nvPr/>
          </p:nvSpPr>
          <p:spPr>
            <a:xfrm>
              <a:off x="5392800" y="5018040"/>
              <a:ext cx="106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 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39"/>
            <p:cNvSpPr/>
            <p:nvPr/>
          </p:nvSpPr>
          <p:spPr>
            <a:xfrm>
              <a:off x="6811920" y="50259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40"/>
            <p:cNvSpPr/>
            <p:nvPr/>
          </p:nvSpPr>
          <p:spPr>
            <a:xfrm rot="5400000">
              <a:off x="5889600" y="4671720"/>
              <a:ext cx="100080" cy="640080"/>
            </a:xfrm>
            <a:custGeom>
              <a:avLst/>
              <a:gdLst>
                <a:gd name="textAreaLeft" fmla="*/ 64080 w 100080"/>
                <a:gd name="textAreaRight" fmla="*/ 100440 w 100080"/>
                <a:gd name="textAreaTop" fmla="*/ 16560 h 640080"/>
                <a:gd name="textAreaBottom" fmla="*/ 623520 h 64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46"/>
            <p:cNvSpPr/>
            <p:nvPr/>
          </p:nvSpPr>
          <p:spPr>
            <a:xfrm>
              <a:off x="1530720" y="609120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7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35"/>
            <p:cNvSpPr/>
            <p:nvPr/>
          </p:nvSpPr>
          <p:spPr>
            <a:xfrm>
              <a:off x="6161400" y="5827680"/>
              <a:ext cx="4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34"/>
            <p:cNvSpPr/>
            <p:nvPr/>
          </p:nvSpPr>
          <p:spPr>
            <a:xfrm>
              <a:off x="6256440" y="6008760"/>
              <a:ext cx="2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TextBox 37"/>
          <p:cNvSpPr/>
          <p:nvPr/>
        </p:nvSpPr>
        <p:spPr>
          <a:xfrm>
            <a:off x="157320" y="2670120"/>
            <a:ext cx="2585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tic make up of the original pop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genotype frequency we can calculate the frequency of each allele in this pop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04920" y="685800"/>
            <a:ext cx="8534160" cy="16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3312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e can follow alleles in a popul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796040" indent="-5277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o observe if Hardy-Weinberg equilibrium exis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796040" indent="-527760">
              <a:spcBef>
                <a:spcPts val="814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+ 2pq + q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= allows us to determine the frequency of genotypes in a gene poo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33"/>
          <p:cNvGrpSpPr/>
          <p:nvPr/>
        </p:nvGrpSpPr>
        <p:grpSpPr>
          <a:xfrm>
            <a:off x="1546560" y="2301840"/>
            <a:ext cx="5843160" cy="4132440"/>
            <a:chOff x="1546560" y="2301840"/>
            <a:chExt cx="5843160" cy="4132440"/>
          </a:xfrm>
        </p:grpSpPr>
        <p:pic>
          <p:nvPicPr>
            <p:cNvPr id="614" name="Picture 8" descr="_x001c_13_07cNewBoobyGenePool_U.jpg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2617920" y="2301840"/>
              <a:ext cx="4771800" cy="41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Text Box 9"/>
            <p:cNvSpPr/>
            <p:nvPr/>
          </p:nvSpPr>
          <p:spPr>
            <a:xfrm>
              <a:off x="2823480" y="2517840"/>
              <a:ext cx="1169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combination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 alleles from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gene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10"/>
            <p:cNvSpPr/>
            <p:nvPr/>
          </p:nvSpPr>
          <p:spPr>
            <a:xfrm>
              <a:off x="3635280" y="412272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G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11"/>
            <p:cNvSpPr/>
            <p:nvPr/>
          </p:nvSpPr>
          <p:spPr>
            <a:xfrm>
              <a:off x="2816280" y="5635800"/>
              <a:ext cx="141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otype frequenc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12"/>
            <p:cNvSpPr/>
            <p:nvPr/>
          </p:nvSpPr>
          <p:spPr>
            <a:xfrm>
              <a:off x="2823480" y="5945040"/>
              <a:ext cx="1175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llele frequenc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13"/>
            <p:cNvSpPr/>
            <p:nvPr/>
          </p:nvSpPr>
          <p:spPr>
            <a:xfrm>
              <a:off x="4493880" y="5635800"/>
              <a:ext cx="69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4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14"/>
            <p:cNvSpPr/>
            <p:nvPr/>
          </p:nvSpPr>
          <p:spPr>
            <a:xfrm>
              <a:off x="5298120" y="5635800"/>
              <a:ext cx="67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32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15"/>
            <p:cNvSpPr/>
            <p:nvPr/>
          </p:nvSpPr>
          <p:spPr>
            <a:xfrm>
              <a:off x="6093000" y="5624640"/>
              <a:ext cx="64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4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16"/>
            <p:cNvSpPr/>
            <p:nvPr/>
          </p:nvSpPr>
          <p:spPr>
            <a:xfrm>
              <a:off x="4935960" y="595008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7"/>
            <p:cNvSpPr/>
            <p:nvPr/>
          </p:nvSpPr>
          <p:spPr>
            <a:xfrm>
              <a:off x="5850000" y="594216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8"/>
            <p:cNvSpPr/>
            <p:nvPr/>
          </p:nvSpPr>
          <p:spPr>
            <a:xfrm>
              <a:off x="2824200" y="5378400"/>
              <a:ext cx="118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xt generatio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19"/>
            <p:cNvSpPr/>
            <p:nvPr/>
          </p:nvSpPr>
          <p:spPr>
            <a:xfrm>
              <a:off x="4070520" y="3629160"/>
              <a:ext cx="596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gg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20"/>
            <p:cNvSpPr/>
            <p:nvPr/>
          </p:nvSpPr>
          <p:spPr>
            <a:xfrm>
              <a:off x="4073760" y="4572000"/>
              <a:ext cx="596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gg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21"/>
            <p:cNvSpPr/>
            <p:nvPr/>
          </p:nvSpPr>
          <p:spPr>
            <a:xfrm>
              <a:off x="4958640" y="2919240"/>
              <a:ext cx="68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erm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22"/>
            <p:cNvSpPr/>
            <p:nvPr/>
          </p:nvSpPr>
          <p:spPr>
            <a:xfrm>
              <a:off x="5860080" y="2927520"/>
              <a:ext cx="659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erm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23"/>
            <p:cNvSpPr/>
            <p:nvPr/>
          </p:nvSpPr>
          <p:spPr>
            <a:xfrm>
              <a:off x="5430600" y="2735280"/>
              <a:ext cx="62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ER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24"/>
            <p:cNvSpPr/>
            <p:nvPr/>
          </p:nvSpPr>
          <p:spPr>
            <a:xfrm>
              <a:off x="4866840" y="3301920"/>
              <a:ext cx="707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1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6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25"/>
            <p:cNvSpPr/>
            <p:nvPr/>
          </p:nvSpPr>
          <p:spPr>
            <a:xfrm>
              <a:off x="5796000" y="3290760"/>
              <a:ext cx="736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q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26"/>
            <p:cNvSpPr/>
            <p:nvPr/>
          </p:nvSpPr>
          <p:spPr>
            <a:xfrm>
              <a:off x="4851360" y="4251240"/>
              <a:ext cx="736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qp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27"/>
            <p:cNvSpPr/>
            <p:nvPr/>
          </p:nvSpPr>
          <p:spPr>
            <a:xfrm>
              <a:off x="5809680" y="4238640"/>
              <a:ext cx="707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i="1" lang="en-US" sz="1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31"/>
            <p:cNvSpPr/>
            <p:nvPr/>
          </p:nvSpPr>
          <p:spPr>
            <a:xfrm>
              <a:off x="1546560" y="613080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7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04920" y="68580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or a population to be in Hardy-Weinberg equilibrium, it must satisfy 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five main conditio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population is very larg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population is isolate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utations do not alter the gene poo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ating is rando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ll individuals are equal in reproductive succes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se 5 conditions are rarely met. In many populations the rate of evolution is so slow that the population appears close to equilibrium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09320" y="1587600"/>
            <a:ext cx="74674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reshman Biology Skip to 13.9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lide 40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04920" y="685440"/>
            <a:ext cx="8478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is type of bird possesses many specialized characteristics, called evolutionary adaptatio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volutionary adaptations are inherited traits that enhance its ability to survive and reproduce in its particular environmen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4" descr="_x001e_13_UN255BlueFootedBooby_UP.jpg                                 0050CFAB_x0003_203                            BE77EE71:"/>
          <p:cNvPicPr/>
          <p:nvPr/>
        </p:nvPicPr>
        <p:blipFill>
          <a:blip r:embed="rId1"/>
          <a:stretch/>
        </p:blipFill>
        <p:spPr>
          <a:xfrm>
            <a:off x="3551400" y="3162240"/>
            <a:ext cx="200628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N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8 The Hardy-Weinberg equation is useful in public health scien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ublic health scientists use the Hardy-Weinberg equatio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o estimate frequencies of disease-causing alleles in the human popul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304920" y="685800"/>
            <a:ext cx="853416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9 In addition to natural selection, genetic drift and gene flow can contribute to evol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enetic drif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a change in the gene pool of a population due to chanc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smaller the population the more likely genetic drift will occu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an alter allele frequencies in a popul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etic drift tend to reduce genetic variation through the loss in allel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377280" indent="-28116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enetic drift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1240" indent="-44784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an cause the bottleneck effect or the founder effec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1240" indent="-44784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ottleneck  effect is an event that drastically reduces the popul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1240" indent="-44784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nder effect  caused by the colonization of new locations by smaller population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50920" indent="-44784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smaller the group the less likely the genetic makeup will represent the population they lef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1240" indent="-44784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14"/>
          <p:cNvGrpSpPr/>
          <p:nvPr/>
        </p:nvGrpSpPr>
        <p:grpSpPr>
          <a:xfrm>
            <a:off x="490680" y="3033720"/>
            <a:ext cx="8474040" cy="3606840"/>
            <a:chOff x="490680" y="3033720"/>
            <a:chExt cx="8474040" cy="3606840"/>
          </a:xfrm>
        </p:grpSpPr>
        <p:pic>
          <p:nvPicPr>
            <p:cNvPr id="647" name="Picture 5" descr="_x001c_13_09aBottleneckEffect_U.jpg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490680" y="3033720"/>
              <a:ext cx="4341600" cy="32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Text Box 6"/>
            <p:cNvSpPr/>
            <p:nvPr/>
          </p:nvSpPr>
          <p:spPr>
            <a:xfrm>
              <a:off x="582840" y="5957640"/>
              <a:ext cx="76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7"/>
            <p:cNvSpPr/>
            <p:nvPr/>
          </p:nvSpPr>
          <p:spPr>
            <a:xfrm>
              <a:off x="2070000" y="5957640"/>
              <a:ext cx="93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ttlenecking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8"/>
            <p:cNvSpPr/>
            <p:nvPr/>
          </p:nvSpPr>
          <p:spPr>
            <a:xfrm>
              <a:off x="3592800" y="5957640"/>
              <a:ext cx="76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rviving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1" name="Picture 9" descr="_x001a_13_09bElephantSeals_UP.jpg                                     0050CFAB_x0003_203                            BE61E8D3:"/>
            <p:cNvPicPr/>
            <p:nvPr/>
          </p:nvPicPr>
          <p:blipFill>
            <a:blip r:embed="rId2"/>
            <a:stretch/>
          </p:blipFill>
          <p:spPr>
            <a:xfrm>
              <a:off x="4722840" y="3393720"/>
              <a:ext cx="424188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Text Box 11"/>
            <p:cNvSpPr/>
            <p:nvPr/>
          </p:nvSpPr>
          <p:spPr>
            <a:xfrm>
              <a:off x="1657800" y="63640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9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12"/>
            <p:cNvSpPr/>
            <p:nvPr/>
          </p:nvSpPr>
          <p:spPr>
            <a:xfrm>
              <a:off x="6267600" y="63543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9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04920" y="685800"/>
            <a:ext cx="853416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ene flow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the movement of individuals or gametes (pollen grains) between population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e flow tends to reduce differences between population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an alter allele frequencies in a popul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 txBox="1"/>
          <p:nvPr/>
        </p:nvSpPr>
        <p:spPr>
          <a:xfrm>
            <a:off x="304920" y="685800"/>
            <a:ext cx="853416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Natural selectio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eads to differential reproductive success in a popul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an alter allele frequencies in a popul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IST THREE CAUSES OF MICROEVOLUTION.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ICH ONE WILL ADAPT A POPULATION TO ITS ENVIRONMENT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6840" y="2828520"/>
            <a:ext cx="746748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N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0 Endangered species often have reduced vari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5480" indent="-34272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ow genetic variability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28800" indent="-5587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ay reduce the capacity of endangered species to survive as humans continue to alter the environmen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5" descr="_x0013_13_10Cheetah_UP.jpg                                            0050CFAB_x0003_203                            BE61E8D3:"/>
          <p:cNvPicPr/>
          <p:nvPr/>
        </p:nvPicPr>
        <p:blipFill>
          <a:blip r:embed="rId1"/>
          <a:stretch/>
        </p:blipFill>
        <p:spPr>
          <a:xfrm>
            <a:off x="3073320" y="3989520"/>
            <a:ext cx="4527720" cy="244944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6"/>
          <p:cNvSpPr/>
          <p:nvPr/>
        </p:nvSpPr>
        <p:spPr>
          <a:xfrm>
            <a:off x="1990440" y="61261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3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kip to 13.18 Natural Selection cannot fashion perfect organism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lide 5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ARIATION AND NATURAL SEL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1 Variation is extensive in most popula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ny populations exhibit polymorphism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ifferent forms of phenotypic characteristics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Group 7"/>
          <p:cNvGrpSpPr/>
          <p:nvPr/>
        </p:nvGrpSpPr>
        <p:grpSpPr>
          <a:xfrm>
            <a:off x="1247400" y="3071880"/>
            <a:ext cx="7028280" cy="3430440"/>
            <a:chOff x="1247400" y="3071880"/>
            <a:chExt cx="7028280" cy="3430440"/>
          </a:xfrm>
        </p:grpSpPr>
        <p:pic>
          <p:nvPicPr>
            <p:cNvPr id="671" name="Picture 5" descr="_x0018_13_11Polymorphism_UP.jpg    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2303640" y="3071880"/>
              <a:ext cx="5972040" cy="34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Text Box 6"/>
            <p:cNvSpPr/>
            <p:nvPr/>
          </p:nvSpPr>
          <p:spPr>
            <a:xfrm>
              <a:off x="1247400" y="610092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opulations may also exhibit geographic vari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ariation of an inherited characteristic along a geographic continuu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0480" y="-36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WHAT ARE SOME OF THE CHARACTERISTICS THAT SHOW EVOLUTIONARY ADAPTATIONS FOR THE BLUE FOOTED BOOBY?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888920"/>
            <a:ext cx="746748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blue-footed booby ha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ormous webbed fee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 oil producing gland that keeps the booby afloa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 nostril that can close under water that prevents water from entering the lung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 gland that secrets salt from consumed sea wat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d a torpedo-like bod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ll adaptations that make life on the sea feasibl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2 Mutation and sexual recombination generate vari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utations, or changes in the nucleotide sequence of DN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an create new allel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928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xual recombin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96920" indent="-533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erates variation by shuffling alleles during meiosi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Group 31"/>
          <p:cNvGrpSpPr/>
          <p:nvPr/>
        </p:nvGrpSpPr>
        <p:grpSpPr>
          <a:xfrm>
            <a:off x="2052360" y="2470320"/>
            <a:ext cx="4977000" cy="3816360"/>
            <a:chOff x="2052360" y="2470320"/>
            <a:chExt cx="4977000" cy="3816360"/>
          </a:xfrm>
        </p:grpSpPr>
        <p:pic>
          <p:nvPicPr>
            <p:cNvPr id="680" name="Picture 5" descr="_x001e_13_12SexualRecombination_U.jpg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4067280" y="2470320"/>
              <a:ext cx="2962080" cy="38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Text Box 6"/>
            <p:cNvSpPr/>
            <p:nvPr/>
          </p:nvSpPr>
          <p:spPr>
            <a:xfrm>
              <a:off x="4381200" y="280188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7"/>
            <p:cNvSpPr/>
            <p:nvPr/>
          </p:nvSpPr>
          <p:spPr>
            <a:xfrm>
              <a:off x="5717880" y="281448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8"/>
            <p:cNvSpPr/>
            <p:nvPr/>
          </p:nvSpPr>
          <p:spPr>
            <a:xfrm>
              <a:off x="4854240" y="280188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9"/>
            <p:cNvSpPr/>
            <p:nvPr/>
          </p:nvSpPr>
          <p:spPr>
            <a:xfrm>
              <a:off x="6181560" y="281448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10"/>
            <p:cNvSpPr/>
            <p:nvPr/>
          </p:nvSpPr>
          <p:spPr>
            <a:xfrm>
              <a:off x="4243320" y="422100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11"/>
            <p:cNvSpPr/>
            <p:nvPr/>
          </p:nvSpPr>
          <p:spPr>
            <a:xfrm>
              <a:off x="4379760" y="556092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12"/>
            <p:cNvSpPr/>
            <p:nvPr/>
          </p:nvSpPr>
          <p:spPr>
            <a:xfrm>
              <a:off x="5286240" y="421812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13"/>
            <p:cNvSpPr/>
            <p:nvPr/>
          </p:nvSpPr>
          <p:spPr>
            <a:xfrm>
              <a:off x="6541920" y="422100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4"/>
            <p:cNvSpPr/>
            <p:nvPr/>
          </p:nvSpPr>
          <p:spPr>
            <a:xfrm>
              <a:off x="4867200" y="554832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15"/>
            <p:cNvSpPr/>
            <p:nvPr/>
          </p:nvSpPr>
          <p:spPr>
            <a:xfrm>
              <a:off x="5802120" y="558648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6"/>
            <p:cNvSpPr/>
            <p:nvPr/>
          </p:nvSpPr>
          <p:spPr>
            <a:xfrm>
              <a:off x="6289560" y="558648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7"/>
            <p:cNvSpPr/>
            <p:nvPr/>
          </p:nvSpPr>
          <p:spPr>
            <a:xfrm>
              <a:off x="5232240" y="58230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18"/>
            <p:cNvSpPr/>
            <p:nvPr/>
          </p:nvSpPr>
          <p:spPr>
            <a:xfrm>
              <a:off x="5257440" y="2860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19"/>
            <p:cNvSpPr/>
            <p:nvPr/>
          </p:nvSpPr>
          <p:spPr>
            <a:xfrm>
              <a:off x="3258720" y="2844720"/>
              <a:ext cx="61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20"/>
            <p:cNvSpPr/>
            <p:nvPr/>
          </p:nvSpPr>
          <p:spPr>
            <a:xfrm>
              <a:off x="3260160" y="3454560"/>
              <a:ext cx="609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io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21"/>
            <p:cNvSpPr/>
            <p:nvPr/>
          </p:nvSpPr>
          <p:spPr>
            <a:xfrm>
              <a:off x="3258720" y="4260960"/>
              <a:ext cx="69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amet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22"/>
            <p:cNvSpPr/>
            <p:nvPr/>
          </p:nvSpPr>
          <p:spPr>
            <a:xfrm>
              <a:off x="3255840" y="5033880"/>
              <a:ext cx="82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rtiliz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23"/>
            <p:cNvSpPr/>
            <p:nvPr/>
          </p:nvSpPr>
          <p:spPr>
            <a:xfrm>
              <a:off x="3254760" y="5575320"/>
              <a:ext cx="9244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fspring,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new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s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 alle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28"/>
            <p:cNvSpPr/>
            <p:nvPr/>
          </p:nvSpPr>
          <p:spPr>
            <a:xfrm>
              <a:off x="2052360" y="599904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11" descr="_x0018_13_13Tuberculosis_UP.jpg                                       0050CFAB_x0003_203                            BE723100:"/>
          <p:cNvPicPr/>
          <p:nvPr/>
        </p:nvPicPr>
        <p:blipFill>
          <a:blip r:embed="rId1"/>
          <a:stretch/>
        </p:blipFill>
        <p:spPr>
          <a:xfrm>
            <a:off x="5191200" y="3606840"/>
            <a:ext cx="2787480" cy="2552760"/>
          </a:xfrm>
          <a:prstGeom prst="rect">
            <a:avLst/>
          </a:prstGeom>
          <a:ln w="0">
            <a:noFill/>
          </a:ln>
        </p:spPr>
      </p:pic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N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3 The evolution of antibiotic resistance in bacteria is a serious public health concer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excessive use of antibiotic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leading to the evolution of antibiotic-resistant bacteri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7"/>
          <p:cNvSpPr/>
          <p:nvPr/>
        </p:nvSpPr>
        <p:spPr>
          <a:xfrm flipH="1" rot="16200000">
            <a:off x="7177680" y="4974480"/>
            <a:ext cx="100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orized SEM 5,600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4479480" y="62071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3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304920" y="685440"/>
            <a:ext cx="8534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4 Diploidy and balancing selection vari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iploidy preserves variatio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y “hiding” recessive allel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alanced polymorphism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ay result from the heterozygote advantage or frequency-dependent selec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ome variations may be neutr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oviding no apparent advantage or disadvantag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Group 7"/>
          <p:cNvGrpSpPr/>
          <p:nvPr/>
        </p:nvGrpSpPr>
        <p:grpSpPr>
          <a:xfrm>
            <a:off x="428760" y="3013200"/>
            <a:ext cx="8234280" cy="3170520"/>
            <a:chOff x="428760" y="3013200"/>
            <a:chExt cx="8234280" cy="3170520"/>
          </a:xfrm>
        </p:grpSpPr>
        <p:pic>
          <p:nvPicPr>
            <p:cNvPr id="711" name="Picture 4" descr="_x001c_13_14NeutralVariation_UP.jpg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428760" y="3013200"/>
              <a:ext cx="8234280" cy="30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Text Box 5"/>
            <p:cNvSpPr/>
            <p:nvPr/>
          </p:nvSpPr>
          <p:spPr>
            <a:xfrm>
              <a:off x="3793680" y="590724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 txBox="1"/>
          <p:nvPr/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5 The perpetuation of genes defines evolutionary fitn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 individual’s fitnes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the contribution it makes to the gene pool of the next gener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 txBox="1"/>
          <p:nvPr/>
        </p:nvSpPr>
        <p:spPr>
          <a:xfrm>
            <a:off x="304920" y="685800"/>
            <a:ext cx="8534160" cy="59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13.16 Natural selection can alter variation in a population in three way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tabilizing selection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6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avors intermediate phenotype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Directional selection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6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Acts against individuals at one of the phenotypic extreme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Disruptive selection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6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avors individuals at both extremes of the phenotypic rang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ree possible effects of natural selec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Group 19"/>
          <p:cNvGrpSpPr/>
          <p:nvPr/>
        </p:nvGrpSpPr>
        <p:grpSpPr>
          <a:xfrm>
            <a:off x="514080" y="1338120"/>
            <a:ext cx="8091720" cy="5139000"/>
            <a:chOff x="514080" y="1338120"/>
            <a:chExt cx="8091720" cy="5139000"/>
          </a:xfrm>
        </p:grpSpPr>
        <p:pic>
          <p:nvPicPr>
            <p:cNvPr id="720" name="Picture 5" descr="_x001f_13_16NaturalSelectModes_3_U.jpg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1295280" y="1338120"/>
              <a:ext cx="7310520" cy="49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Text Box 6"/>
            <p:cNvSpPr/>
            <p:nvPr/>
          </p:nvSpPr>
          <p:spPr>
            <a:xfrm>
              <a:off x="5261040" y="1519200"/>
              <a:ext cx="76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7"/>
            <p:cNvSpPr/>
            <p:nvPr/>
          </p:nvSpPr>
          <p:spPr>
            <a:xfrm flipV="1">
              <a:off x="5138640" y="1654200"/>
              <a:ext cx="17316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 Box 8"/>
            <p:cNvSpPr/>
            <p:nvPr/>
          </p:nvSpPr>
          <p:spPr>
            <a:xfrm>
              <a:off x="1802520" y="6219720"/>
              <a:ext cx="139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abilizing sel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9"/>
            <p:cNvSpPr/>
            <p:nvPr/>
          </p:nvSpPr>
          <p:spPr>
            <a:xfrm>
              <a:off x="1319400" y="3459240"/>
              <a:ext cx="76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10"/>
            <p:cNvSpPr/>
            <p:nvPr/>
          </p:nvSpPr>
          <p:spPr>
            <a:xfrm flipH="1" flipV="1">
              <a:off x="1893960" y="3836880"/>
              <a:ext cx="355680" cy="95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Text Box 11"/>
            <p:cNvSpPr/>
            <p:nvPr/>
          </p:nvSpPr>
          <p:spPr>
            <a:xfrm>
              <a:off x="2594160" y="3462480"/>
              <a:ext cx="76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volved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12"/>
            <p:cNvSpPr/>
            <p:nvPr/>
          </p:nvSpPr>
          <p:spPr>
            <a:xfrm flipV="1">
              <a:off x="2600280" y="3860640"/>
              <a:ext cx="297000" cy="63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13"/>
            <p:cNvSpPr/>
            <p:nvPr/>
          </p:nvSpPr>
          <p:spPr>
            <a:xfrm rot="16200000">
              <a:off x="3064320" y="2179080"/>
              <a:ext cx="1449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requency of individu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14"/>
            <p:cNvSpPr/>
            <p:nvPr/>
          </p:nvSpPr>
          <p:spPr>
            <a:xfrm>
              <a:off x="4300920" y="3435480"/>
              <a:ext cx="1425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enotypes (fur color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15"/>
            <p:cNvSpPr/>
            <p:nvPr/>
          </p:nvSpPr>
          <p:spPr>
            <a:xfrm>
              <a:off x="4321080" y="6230880"/>
              <a:ext cx="141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rectional sel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16"/>
            <p:cNvSpPr/>
            <p:nvPr/>
          </p:nvSpPr>
          <p:spPr>
            <a:xfrm>
              <a:off x="6751440" y="6227640"/>
              <a:ext cx="138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ruptive sel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17"/>
            <p:cNvSpPr/>
            <p:nvPr/>
          </p:nvSpPr>
          <p:spPr>
            <a:xfrm>
              <a:off x="514080" y="617688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7 Sexual selection may produce sexual dimorphis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xual selection leads to the evolution of secondary sexual characteristic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hich may give individuals an advantage in mating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Group 9"/>
          <p:cNvGrpSpPr/>
          <p:nvPr/>
        </p:nvGrpSpPr>
        <p:grpSpPr>
          <a:xfrm>
            <a:off x="1928880" y="3981600"/>
            <a:ext cx="3247920" cy="2441520"/>
            <a:chOff x="1928880" y="3981600"/>
            <a:chExt cx="3247920" cy="2441520"/>
          </a:xfrm>
        </p:grpSpPr>
        <p:pic>
          <p:nvPicPr>
            <p:cNvPr id="736" name="Picture 4" descr="_x001e_13_17aIntrasexualSelect_UP.jpg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1928880" y="3981600"/>
              <a:ext cx="324792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Text Box 6"/>
            <p:cNvSpPr/>
            <p:nvPr/>
          </p:nvSpPr>
          <p:spPr>
            <a:xfrm>
              <a:off x="2795040" y="614664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7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Group 8"/>
          <p:cNvGrpSpPr/>
          <p:nvPr/>
        </p:nvGrpSpPr>
        <p:grpSpPr>
          <a:xfrm>
            <a:off x="5710320" y="3578400"/>
            <a:ext cx="1566720" cy="2836800"/>
            <a:chOff x="5710320" y="3578400"/>
            <a:chExt cx="1566720" cy="2836800"/>
          </a:xfrm>
        </p:grpSpPr>
        <p:pic>
          <p:nvPicPr>
            <p:cNvPr id="739" name="Picture 5" descr="_x0014_13_17bPeacock_UP.jpg                                           0050CFAB_x0003_203                            BE61E8D3:"/>
            <p:cNvPicPr/>
            <p:nvPr/>
          </p:nvPicPr>
          <p:blipFill>
            <a:blip r:embed="rId2"/>
            <a:stretch/>
          </p:blipFill>
          <p:spPr>
            <a:xfrm>
              <a:off x="5710320" y="3578400"/>
              <a:ext cx="156672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Text Box 7"/>
            <p:cNvSpPr/>
            <p:nvPr/>
          </p:nvSpPr>
          <p:spPr>
            <a:xfrm>
              <a:off x="5906880" y="613872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7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304920" y="685800"/>
            <a:ext cx="853416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8 Natural selection cannot fashion perfect organism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re are at least four reasons why natural selection cannot produce perfec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rganisms are limited by historical constrain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daptations are often compromis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hance and natural selection interac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lection can only edit existing variation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you look at any organism critically, you are first struck by the differences from other organism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urther observations often reveals that an organism’s features show some relationship to where the organism lives and what it does in its environ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ARWIN’S THEORY OF EVOLU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 A sea voyage helped Darwin frame his theory of evol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30480">
              <a:spcBef>
                <a:spcPts val="788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n his visit to the Galápagos Islands: </a:t>
            </a:r>
            <a:r>
              <a:rPr b="0" lang="en-US" sz="21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(VIDEO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6200" indent="-533520">
              <a:spcBef>
                <a:spcPts val="675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harles Darwin observed many unique organism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6200" indent="-533520">
              <a:spcBef>
                <a:spcPts val="675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Iguan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34"/>
          <p:cNvGrpSpPr/>
          <p:nvPr/>
        </p:nvGrpSpPr>
        <p:grpSpPr>
          <a:xfrm>
            <a:off x="2279520" y="3394080"/>
            <a:ext cx="5597640" cy="3035160"/>
            <a:chOff x="2279520" y="3394080"/>
            <a:chExt cx="5597640" cy="3035160"/>
          </a:xfrm>
        </p:grpSpPr>
        <p:pic>
          <p:nvPicPr>
            <p:cNvPr id="370" name="Picture 31" descr="_x0019_13_01aMarineIguana_UP.jpg                                      0050CFAB_x0003_203                            BE61E8D3:"/>
            <p:cNvPicPr/>
            <p:nvPr/>
          </p:nvPicPr>
          <p:blipFill>
            <a:blip r:embed="rId3"/>
            <a:stretch/>
          </p:blipFill>
          <p:spPr>
            <a:xfrm>
              <a:off x="3336840" y="3394080"/>
              <a:ext cx="4540320" cy="30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Text Box 32"/>
            <p:cNvSpPr/>
            <p:nvPr/>
          </p:nvSpPr>
          <p:spPr>
            <a:xfrm>
              <a:off x="2279520" y="61275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Box 7"/>
          <p:cNvSpPr/>
          <p:nvPr/>
        </p:nvSpPr>
        <p:spPr>
          <a:xfrm>
            <a:off x="204840" y="3357720"/>
            <a:ext cx="2550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Arial"/>
              </a:rPr>
              <a:t>Note: Special structures or behaviors help the organism survive and reproduce in a </a:t>
            </a:r>
            <a:r>
              <a:rPr b="0" i="1" lang="en-US" sz="2400" spc="-1" strike="noStrike" u="sng">
                <a:solidFill>
                  <a:srgbClr val="e75c01"/>
                </a:solidFill>
                <a:uFillTx/>
                <a:latin typeface="Arial"/>
              </a:rPr>
              <a:t>particular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2240" y="274320"/>
            <a:ext cx="85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LIVING SPECIES HAVE ARISEN FROM EARLIER LIFE FORMS AND THAT SPECIES CHANGE OVER TIME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rwin’s main ideas can be traced back to the ancient Greek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naximander (about 2,500 years ago) suggested that life arose in water and that simpler forms preceded more complex forms of lif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ristotle believed that species were fixed and did not evolv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Judeo-Christian tradition that all species were created in a single act of creation about 6,000 years ago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04920" y="685800"/>
            <a:ext cx="8534160" cy="57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 the century prior to Darwi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e75c01"/>
                </a:solidFill>
                <a:uFillTx/>
                <a:latin typeface="Century Schoolbook"/>
              </a:rPr>
              <a:t>Buffon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(mid-1700s) suggested that Earth was much older than 6,000 years,  and raised the possibility that different species arose from common ancestors, although he later argued against this poin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study of fossils suggested that life forms chang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Video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 u="sng">
                <a:solidFill>
                  <a:srgbClr val="e75c01"/>
                </a:solidFill>
                <a:uFillTx/>
                <a:latin typeface="Century Schoolbook"/>
              </a:rPr>
              <a:t>Lamarck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(early 1800s) was the first to strongly support the idea of evolution, but he believed the mechanism for change was the inheritance of acquired characteristic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e proposed that by using or not using its body parts, an individual may develop certain traits that are passed on to its offspring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0:54:38Z</dcterms:created>
  <dc:creator>Christopher Delgado</dc:creator>
  <dc:description/>
  <dc:language>en-US</dc:language>
  <cp:lastModifiedBy> </cp:lastModifiedBy>
  <cp:lastPrinted>2005-04-02T23:11:35Z</cp:lastPrinted>
  <dcterms:modified xsi:type="dcterms:W3CDTF">2010-02-23T23:46:24Z</dcterms:modified>
  <cp:revision>599</cp:revision>
  <dc:subject/>
  <dc:title>Slide 1</dc:title>
</cp:coreProperties>
</file>